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gif" ContentType="image/gi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6C475-A7E9-4CA8-997C-A9A34673E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3F35-4B18-4A85-BD24-75847D2BB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B954-8371-486F-BFB3-294A07312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069E9-F7C7-4E83-86A0-9B4E6B362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4E24-BB87-4027-8B0D-286C6D512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4CDF-05C5-498F-A818-E81EBEF70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13FAD-8AD6-4F1D-8414-D72EC5579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4A8FC-39D1-42F4-A29F-F51C01591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FAAF-49A7-4F6C-9A24-0186D7B3D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D07F-7E1E-4860-A93E-401494466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0A2A-FD56-4AFF-A455-721E75AC0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A71B-1B48-4CEB-A94C-208AD9F92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D42A-A212-466B-8F7F-E45B9A0F588D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1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5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bability &amp; Genet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248520" y="3808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0" t="2252" r="0" b="0"/>
          <a:stretch/>
        </p:blipFill>
        <p:spPr>
          <a:xfrm>
            <a:off x="152280" y="4232160"/>
            <a:ext cx="35816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i-square tes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est to see if your data support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your hypothe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mpare “observed” vs. “expected” data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s variance from expected due to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“random chance”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r is there another factor influencing data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ull hypothesi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egrees of freedom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atistical significanc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4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enetics &amp; Probabil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5867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endel’s laws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gregation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dependent assortment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flect same laws of probability that apply to tossing coins or rolling dic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895480" y="4572000"/>
            <a:ext cx="3762360" cy="2127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962760" y="457200"/>
            <a:ext cx="18763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bability &amp; genet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533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lculating probability of making a specific gamete is just like calculating the probability in flipping a coi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bability of tossing heads?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bability making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gamete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174520" y="4723920"/>
            <a:ext cx="843840" cy="4615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50%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90200" y="2229840"/>
            <a:ext cx="1028160" cy="4615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00%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172200" y="1600200"/>
            <a:ext cx="2049480" cy="1752480"/>
            <a:chOff x="6172200" y="1600200"/>
            <a:chExt cx="2049480" cy="1752480"/>
          </a:xfrm>
        </p:grpSpPr>
        <p:grpSp>
          <p:nvGrpSpPr>
            <p:cNvPr id="108" name=""/>
            <p:cNvGrpSpPr/>
            <p:nvPr/>
          </p:nvGrpSpPr>
          <p:grpSpPr>
            <a:xfrm>
              <a:off x="6172200" y="2097000"/>
              <a:ext cx="838080" cy="838080"/>
              <a:chOff x="6172200" y="2097000"/>
              <a:chExt cx="838080" cy="838080"/>
            </a:xfrm>
          </p:grpSpPr>
          <p:sp>
            <p:nvSpPr>
              <p:cNvPr id="109" name=""/>
              <p:cNvSpPr/>
              <p:nvPr/>
            </p:nvSpPr>
            <p:spPr>
              <a:xfrm>
                <a:off x="6172200" y="209700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229080" y="2248560"/>
                <a:ext cx="732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BB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7612200" y="1600200"/>
              <a:ext cx="609480" cy="609480"/>
              <a:chOff x="7612200" y="1600200"/>
              <a:chExt cx="609480" cy="609480"/>
            </a:xfrm>
          </p:grpSpPr>
          <p:sp>
            <p:nvSpPr>
              <p:cNvPr id="112" name=""/>
              <p:cNvSpPr/>
              <p:nvPr/>
            </p:nvSpPr>
            <p:spPr>
              <a:xfrm>
                <a:off x="7612200" y="160020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89240" y="162936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7612200" y="2743200"/>
              <a:ext cx="609480" cy="609480"/>
              <a:chOff x="7612200" y="2743200"/>
              <a:chExt cx="609480" cy="609480"/>
            </a:xfrm>
          </p:grpSpPr>
          <p:sp>
            <p:nvSpPr>
              <p:cNvPr id="115" name=""/>
              <p:cNvSpPr/>
              <p:nvPr/>
            </p:nvSpPr>
            <p:spPr>
              <a:xfrm>
                <a:off x="7612200" y="274320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89240" y="277236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 rot="1800000">
              <a:off x="7002000" y="266688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 rot="19800000">
              <a:off x="7002000" y="2133360"/>
              <a:ext cx="609840" cy="15264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180120" y="4114800"/>
            <a:ext cx="2049480" cy="1752480"/>
            <a:chOff x="6180120" y="4114800"/>
            <a:chExt cx="2049480" cy="1752480"/>
          </a:xfrm>
        </p:grpSpPr>
        <p:grpSp>
          <p:nvGrpSpPr>
            <p:cNvPr id="120" name=""/>
            <p:cNvGrpSpPr/>
            <p:nvPr/>
          </p:nvGrpSpPr>
          <p:grpSpPr>
            <a:xfrm>
              <a:off x="6180120" y="4611600"/>
              <a:ext cx="838080" cy="838080"/>
              <a:chOff x="6180120" y="4611600"/>
              <a:chExt cx="838080" cy="838080"/>
            </a:xfrm>
          </p:grpSpPr>
          <p:sp>
            <p:nvSpPr>
              <p:cNvPr id="121" name=""/>
              <p:cNvSpPr/>
              <p:nvPr/>
            </p:nvSpPr>
            <p:spPr>
              <a:xfrm>
                <a:off x="6180120" y="461160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257520" y="4763160"/>
                <a:ext cx="689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Bb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7620120" y="4114800"/>
              <a:ext cx="609480" cy="609480"/>
              <a:chOff x="7620120" y="4114800"/>
              <a:chExt cx="609480" cy="609480"/>
            </a:xfrm>
          </p:grpSpPr>
          <p:sp>
            <p:nvSpPr>
              <p:cNvPr id="124" name=""/>
              <p:cNvSpPr/>
              <p:nvPr/>
            </p:nvSpPr>
            <p:spPr>
              <a:xfrm>
                <a:off x="7620120" y="411480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97160" y="414396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7620120" y="5257800"/>
              <a:ext cx="609480" cy="609480"/>
              <a:chOff x="7620120" y="5257800"/>
              <a:chExt cx="609480" cy="609480"/>
            </a:xfrm>
          </p:grpSpPr>
          <p:sp>
            <p:nvSpPr>
              <p:cNvPr id="127" name=""/>
              <p:cNvSpPr/>
              <p:nvPr/>
            </p:nvSpPr>
            <p:spPr>
              <a:xfrm>
                <a:off x="7620120" y="525780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18760" y="528732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 rot="1800000">
              <a:off x="7010280" y="518112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 rot="19800000">
              <a:off x="7010280" y="464832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robability &amp; genetic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632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utcome of 1 toss has no impact on the outcome of the next tos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bability of tossing heads each time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bability making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gamete each time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1840" y="327600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1840" y="419040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96080" y="1371600"/>
            <a:ext cx="1005120" cy="201312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6553080" y="4114800"/>
            <a:ext cx="2049480" cy="1752480"/>
            <a:chOff x="6553080" y="4114800"/>
            <a:chExt cx="2049480" cy="1752480"/>
          </a:xfrm>
        </p:grpSpPr>
        <p:grpSp>
          <p:nvGrpSpPr>
            <p:cNvPr id="137" name=""/>
            <p:cNvGrpSpPr/>
            <p:nvPr/>
          </p:nvGrpSpPr>
          <p:grpSpPr>
            <a:xfrm>
              <a:off x="6553080" y="4611600"/>
              <a:ext cx="838080" cy="838080"/>
              <a:chOff x="6553080" y="4611600"/>
              <a:chExt cx="838080" cy="838080"/>
            </a:xfrm>
          </p:grpSpPr>
          <p:sp>
            <p:nvSpPr>
              <p:cNvPr id="138" name=""/>
              <p:cNvSpPr/>
              <p:nvPr/>
            </p:nvSpPr>
            <p:spPr>
              <a:xfrm>
                <a:off x="6553080" y="461160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630480" y="4763160"/>
                <a:ext cx="689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Bb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993080" y="4114800"/>
              <a:ext cx="609480" cy="609480"/>
              <a:chOff x="7993080" y="4114800"/>
              <a:chExt cx="609480" cy="609480"/>
            </a:xfrm>
          </p:grpSpPr>
          <p:sp>
            <p:nvSpPr>
              <p:cNvPr id="141" name=""/>
              <p:cNvSpPr/>
              <p:nvPr/>
            </p:nvSpPr>
            <p:spPr>
              <a:xfrm>
                <a:off x="7993080" y="411480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070120" y="414396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993080" y="5257800"/>
              <a:ext cx="609480" cy="609480"/>
              <a:chOff x="7993080" y="5257800"/>
              <a:chExt cx="60948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7993080" y="525780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089920" y="528732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rot="1800000">
              <a:off x="7383240" y="518112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 rot="19800000">
              <a:off x="7383240" y="464832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181480" y="1981080"/>
            <a:ext cx="3886200" cy="472464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1523880"/>
            <a:ext cx="3886200" cy="4572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alculating probabilit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59600" y="152316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301"/>
                </a:solidFill>
                <a:latin typeface="Arial"/>
              </a:rPr>
              <a:t>sperm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86560" y="1523160"/>
            <a:ext cx="67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301"/>
                </a:solidFill>
                <a:latin typeface="Arial"/>
              </a:rPr>
              <a:t>eg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1160" y="248256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87560" y="248256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2960" y="1523160"/>
            <a:ext cx="139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301"/>
                </a:solidFill>
                <a:latin typeface="Arial"/>
              </a:rPr>
              <a:t>offsprin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4480" y="248256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86520" y="248256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49800" y="248256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/4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563800" y="2133000"/>
            <a:ext cx="3000960" cy="550800"/>
            <a:chOff x="5563800" y="2133000"/>
            <a:chExt cx="3000960" cy="550800"/>
          </a:xfrm>
        </p:grpSpPr>
        <p:sp>
          <p:nvSpPr>
            <p:cNvPr id="160" name=""/>
            <p:cNvSpPr/>
            <p:nvPr/>
          </p:nvSpPr>
          <p:spPr>
            <a:xfrm>
              <a:off x="5563800" y="213300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06440" y="213300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75000" y="2133000"/>
              <a:ext cx="68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563800" y="3199680"/>
            <a:ext cx="2989440" cy="550800"/>
            <a:chOff x="5563800" y="3199680"/>
            <a:chExt cx="2989440" cy="550800"/>
          </a:xfrm>
        </p:grpSpPr>
        <p:sp>
          <p:nvSpPr>
            <p:cNvPr id="164" name=""/>
            <p:cNvSpPr/>
            <p:nvPr/>
          </p:nvSpPr>
          <p:spPr>
            <a:xfrm>
              <a:off x="5563800" y="319968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16520" y="319968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84720" y="31996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411160" y="5835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87560" y="5835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14480" y="583524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86520" y="583524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9800" y="5835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/4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573880" y="5409360"/>
            <a:ext cx="2968560" cy="550800"/>
            <a:chOff x="5573880" y="5409360"/>
            <a:chExt cx="2968560" cy="550800"/>
          </a:xfrm>
        </p:grpSpPr>
        <p:sp>
          <p:nvSpPr>
            <p:cNvPr id="173" name=""/>
            <p:cNvSpPr/>
            <p:nvPr/>
          </p:nvSpPr>
          <p:spPr>
            <a:xfrm>
              <a:off x="5573880" y="540936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16880" y="540936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95520" y="5409360"/>
              <a:ext cx="646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575320" y="4037760"/>
            <a:ext cx="2736360" cy="550800"/>
            <a:chOff x="5575320" y="4037760"/>
            <a:chExt cx="2736360" cy="550800"/>
          </a:xfrm>
        </p:grpSpPr>
        <p:sp>
          <p:nvSpPr>
            <p:cNvPr id="177" name=""/>
            <p:cNvSpPr/>
            <p:nvPr/>
          </p:nvSpPr>
          <p:spPr>
            <a:xfrm>
              <a:off x="5575320" y="403776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06440" y="403776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27720" y="4038480"/>
              <a:ext cx="1839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aphicFrame>
        <p:nvGraphicFramePr>
          <p:cNvPr id="180" name=""/>
          <p:cNvGraphicFramePr/>
          <p:nvPr/>
        </p:nvGraphicFramePr>
        <p:xfrm>
          <a:off x="1595520" y="3803760"/>
          <a:ext cx="2895480" cy="252720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899720" y="142704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  x   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054160" y="2854800"/>
            <a:ext cx="1889280" cy="889200"/>
            <a:chOff x="2054160" y="2854800"/>
            <a:chExt cx="1889280" cy="889200"/>
          </a:xfrm>
        </p:grpSpPr>
        <p:sp>
          <p:nvSpPr>
            <p:cNvPr id="183" name=""/>
            <p:cNvSpPr/>
            <p:nvPr/>
          </p:nvSpPr>
          <p:spPr>
            <a:xfrm>
              <a:off x="2130480" y="319320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11800" y="319320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54160" y="2854800"/>
              <a:ext cx="188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male / sperm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18120" y="4093560"/>
            <a:ext cx="728280" cy="1951560"/>
            <a:chOff x="618120" y="4093560"/>
            <a:chExt cx="728280" cy="1951560"/>
          </a:xfrm>
        </p:grpSpPr>
        <p:sp>
          <p:nvSpPr>
            <p:cNvPr id="187" name=""/>
            <p:cNvSpPr/>
            <p:nvPr/>
          </p:nvSpPr>
          <p:spPr>
            <a:xfrm>
              <a:off x="911160" y="4260240"/>
              <a:ext cx="435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11520" y="541584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f116a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6200000">
              <a:off x="-142920" y="4854600"/>
              <a:ext cx="1951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301"/>
                  </a:solidFill>
                  <a:latin typeface="Arial"/>
                </a:rPr>
                <a:t>female / eggs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90" name="" descr=""/>
          <p:cNvPicPr/>
          <p:nvPr/>
        </p:nvPicPr>
        <p:blipFill>
          <a:blip r:embed="rId1"/>
          <a:srcRect l="9000" t="66008" r="75379" b="7504"/>
          <a:stretch/>
        </p:blipFill>
        <p:spPr>
          <a:xfrm>
            <a:off x="1623960" y="386064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rcRect l="78757" t="66008" r="4500" b="7504"/>
          <a:stretch/>
        </p:blipFill>
        <p:spPr>
          <a:xfrm>
            <a:off x="3060720" y="5059440"/>
            <a:ext cx="758880" cy="8935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rcRect l="9000" t="66008" r="75379" b="7504"/>
          <a:stretch/>
        </p:blipFill>
        <p:spPr>
          <a:xfrm>
            <a:off x="3060720" y="3860640"/>
            <a:ext cx="719280" cy="9144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rcRect l="9000" t="66008" r="75379" b="7504"/>
          <a:stretch/>
        </p:blipFill>
        <p:spPr>
          <a:xfrm>
            <a:off x="1623960" y="5059440"/>
            <a:ext cx="719280" cy="9144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21840" y="4252320"/>
            <a:ext cx="68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58880" y="425232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22200" y="544284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58520" y="5442840"/>
            <a:ext cx="64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5"/>
          <a:srcRect l="9000" t="66008" r="75379" b="7504"/>
          <a:stretch/>
        </p:blipFill>
        <p:spPr>
          <a:xfrm>
            <a:off x="1886040" y="186840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rcRect l="9000" t="66008" r="75379" b="7504"/>
          <a:stretch/>
        </p:blipFill>
        <p:spPr>
          <a:xfrm>
            <a:off x="3211560" y="1868400"/>
            <a:ext cx="7189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411160" y="362556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87560" y="362556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14480" y="362556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86520" y="362556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49800" y="362556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/4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11160" y="449532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87560" y="449532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14480" y="449532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86520" y="44953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49800" y="444780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/4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24680" y="4952880"/>
            <a:ext cx="53352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9800" y="48938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/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79400" y="401112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Chance that 2 or more independent events will occur together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probability that 2 coins tossed at the same time will land heads up </a:t>
            </a:r>
            <a:br>
              <a:rPr sz="3000"/>
            </a:b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probability of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x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pp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660066"/>
                </a:solidFill>
                <a:latin typeface="Arial"/>
              </a:rPr>
              <a:t>Rule of multiplication</a:t>
            </a:r>
            <a:endParaRPr b="1" lang="en-US" sz="3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31520" y="3504600"/>
            <a:ext cx="2869560" cy="5965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1/2 </a:t>
            </a:r>
            <a:r>
              <a:rPr b="1" lang="en-US" sz="3300" spc="-1" strike="noStrike">
                <a:solidFill>
                  <a:srgbClr val="0f116a"/>
                </a:solidFill>
                <a:latin typeface="Arial"/>
              </a:rPr>
              <a:t>x</a:t>
            </a: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 1/2 </a:t>
            </a:r>
            <a:r>
              <a:rPr b="1" lang="en-US" sz="3300" spc="-1" strike="noStrike">
                <a:solidFill>
                  <a:srgbClr val="0f116a"/>
                </a:solidFill>
                <a:latin typeface="Arial"/>
              </a:rPr>
              <a:t>=</a:t>
            </a: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 1/4</a:t>
            </a:r>
            <a:endParaRPr b="0" lang="en-US" sz="3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31520" y="5108040"/>
            <a:ext cx="2869560" cy="5965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1/2 </a:t>
            </a:r>
            <a:r>
              <a:rPr b="1" lang="en-US" sz="3300" spc="-1" strike="noStrike">
                <a:solidFill>
                  <a:srgbClr val="0f116a"/>
                </a:solidFill>
                <a:latin typeface="Arial"/>
              </a:rPr>
              <a:t>x</a:t>
            </a: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 1/2 </a:t>
            </a:r>
            <a:r>
              <a:rPr b="1" lang="en-US" sz="3300" spc="-1" strike="noStrike">
                <a:solidFill>
                  <a:srgbClr val="0f116a"/>
                </a:solidFill>
                <a:latin typeface="Arial"/>
              </a:rPr>
              <a:t>=</a:t>
            </a: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 1/4</a:t>
            </a:r>
            <a:endParaRPr b="0" lang="en-US" sz="33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703920" y="4773600"/>
            <a:ext cx="2049480" cy="1752480"/>
            <a:chOff x="6703920" y="4773600"/>
            <a:chExt cx="2049480" cy="1752480"/>
          </a:xfrm>
        </p:grpSpPr>
        <p:grpSp>
          <p:nvGrpSpPr>
            <p:cNvPr id="218" name=""/>
            <p:cNvGrpSpPr/>
            <p:nvPr/>
          </p:nvGrpSpPr>
          <p:grpSpPr>
            <a:xfrm>
              <a:off x="6703920" y="5270400"/>
              <a:ext cx="838080" cy="838080"/>
              <a:chOff x="6703920" y="5270400"/>
              <a:chExt cx="838080" cy="838080"/>
            </a:xfrm>
          </p:grpSpPr>
          <p:sp>
            <p:nvSpPr>
              <p:cNvPr id="219" name=""/>
              <p:cNvSpPr/>
              <p:nvPr/>
            </p:nvSpPr>
            <p:spPr>
              <a:xfrm>
                <a:off x="6703920" y="5270400"/>
                <a:ext cx="838080" cy="8380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91040" y="542196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8143920" y="4773600"/>
              <a:ext cx="609480" cy="609480"/>
              <a:chOff x="8143920" y="4773600"/>
              <a:chExt cx="609480" cy="609480"/>
            </a:xfrm>
          </p:grpSpPr>
          <p:sp>
            <p:nvSpPr>
              <p:cNvPr id="222" name=""/>
              <p:cNvSpPr/>
              <p:nvPr/>
            </p:nvSpPr>
            <p:spPr>
              <a:xfrm>
                <a:off x="8143920" y="4773600"/>
                <a:ext cx="609480" cy="6094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231040" y="4802760"/>
                <a:ext cx="435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8143920" y="5916600"/>
              <a:ext cx="609480" cy="609480"/>
              <a:chOff x="8143920" y="5916600"/>
              <a:chExt cx="609480" cy="609480"/>
            </a:xfrm>
          </p:grpSpPr>
          <p:sp>
            <p:nvSpPr>
              <p:cNvPr id="225" name=""/>
              <p:cNvSpPr/>
              <p:nvPr/>
            </p:nvSpPr>
            <p:spPr>
              <a:xfrm>
                <a:off x="8143920" y="5916600"/>
                <a:ext cx="609480" cy="609480"/>
              </a:xfrm>
              <a:prstGeom prst="ellipse">
                <a:avLst/>
              </a:prstGeom>
              <a:solidFill>
                <a:srgbClr val="ba64cc"/>
              </a:solidFill>
              <a:ln w="9360">
                <a:solidFill>
                  <a:srgbClr val="ba6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240760" y="594612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 rot="1800000">
              <a:off x="7534080" y="583992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 rot="19800000">
              <a:off x="7534080" y="530712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cc0000"/>
            </a:solidFill>
            <a:ln w="93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93800" y="6357960"/>
            <a:ext cx="96840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3476520"/>
            <a:ext cx="2944800" cy="3175200"/>
          </a:xfrm>
          <a:prstGeom prst="rect">
            <a:avLst/>
          </a:prstGeom>
          <a:solidFill>
            <a:srgbClr val="b7c1e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1240" y="3465360"/>
            <a:ext cx="2944800" cy="317520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alculating probability in cross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13960" y="1371240"/>
            <a:ext cx="780588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Use rule of multiplication to predict crosses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162240" y="2179800"/>
            <a:ext cx="1143000" cy="1143000"/>
            <a:chOff x="3162240" y="2179800"/>
            <a:chExt cx="1143000" cy="1143000"/>
          </a:xfrm>
        </p:grpSpPr>
        <p:sp>
          <p:nvSpPr>
            <p:cNvPr id="235" name=""/>
            <p:cNvSpPr/>
            <p:nvPr/>
          </p:nvSpPr>
          <p:spPr>
            <a:xfrm>
              <a:off x="3162240" y="2179800"/>
              <a:ext cx="1143000" cy="11430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44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98240" y="2476080"/>
              <a:ext cx="1070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yR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861080" y="2179800"/>
            <a:ext cx="1143000" cy="1143000"/>
            <a:chOff x="4861080" y="2179800"/>
            <a:chExt cx="1143000" cy="1143000"/>
          </a:xfrm>
        </p:grpSpPr>
        <p:sp>
          <p:nvSpPr>
            <p:cNvPr id="238" name=""/>
            <p:cNvSpPr/>
            <p:nvPr/>
          </p:nvSpPr>
          <p:spPr>
            <a:xfrm>
              <a:off x="4861080" y="2179800"/>
              <a:ext cx="1143000" cy="1143000"/>
            </a:xfrm>
            <a:prstGeom prst="ellipse">
              <a:avLst/>
            </a:prstGeom>
            <a:solidFill>
              <a:srgbClr val="ffea18"/>
            </a:solidFill>
            <a:ln w="9360">
              <a:solidFill>
                <a:srgbClr val="44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97080" y="2476080"/>
              <a:ext cx="1070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00"/>
                  </a:solidFill>
                  <a:latin typeface="Arial"/>
                </a:rPr>
                <a:t>YyR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376880" y="2484360"/>
            <a:ext cx="358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25840" y="3103560"/>
            <a:ext cx="277920" cy="714240"/>
          </a:xfrm>
          <a:prstGeom prst="downArrow">
            <a:avLst>
              <a:gd name="adj1" fmla="val 50000"/>
              <a:gd name="adj2" fmla="val 64249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021200" y="3873600"/>
            <a:ext cx="1068840" cy="891360"/>
            <a:chOff x="4021200" y="3873600"/>
            <a:chExt cx="1068840" cy="891360"/>
          </a:xfrm>
        </p:grpSpPr>
        <p:grpSp>
          <p:nvGrpSpPr>
            <p:cNvPr id="243" name=""/>
            <p:cNvGrpSpPr/>
            <p:nvPr/>
          </p:nvGrpSpPr>
          <p:grpSpPr>
            <a:xfrm>
              <a:off x="4021200" y="3873600"/>
              <a:ext cx="1068840" cy="891360"/>
              <a:chOff x="4021200" y="3873600"/>
              <a:chExt cx="1068840" cy="891360"/>
            </a:xfrm>
          </p:grpSpPr>
          <p:sp>
            <p:nvSpPr>
              <p:cNvPr id="244" name=""/>
              <p:cNvSpPr/>
              <p:nvPr/>
            </p:nvSpPr>
            <p:spPr>
              <a:xfrm>
                <a:off x="4021200" y="4051080"/>
                <a:ext cx="356040" cy="35712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98680" y="3873600"/>
                <a:ext cx="35676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733280" y="4230000"/>
                <a:ext cx="35676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733280" y="4051080"/>
                <a:ext cx="356760" cy="35712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555800" y="3873600"/>
                <a:ext cx="35604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98680" y="4230000"/>
                <a:ext cx="35676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555800" y="4408560"/>
                <a:ext cx="35604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98680" y="4408560"/>
                <a:ext cx="35676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377240" y="4051080"/>
                <a:ext cx="534600" cy="53496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4148640" y="3993480"/>
              <a:ext cx="900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ea18"/>
                  </a:solidFill>
                  <a:latin typeface="Arial"/>
                </a:rPr>
                <a:t>yyr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075200" y="4951440"/>
            <a:ext cx="96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?%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93680" y="3676680"/>
            <a:ext cx="2778120" cy="1143000"/>
            <a:chOff x="193680" y="3676680"/>
            <a:chExt cx="2778120" cy="1143000"/>
          </a:xfrm>
        </p:grpSpPr>
        <p:grpSp>
          <p:nvGrpSpPr>
            <p:cNvPr id="256" name=""/>
            <p:cNvGrpSpPr/>
            <p:nvPr/>
          </p:nvGrpSpPr>
          <p:grpSpPr>
            <a:xfrm>
              <a:off x="193680" y="3676680"/>
              <a:ext cx="1143000" cy="1143000"/>
              <a:chOff x="193680" y="3676680"/>
              <a:chExt cx="1143000" cy="1143000"/>
            </a:xfrm>
          </p:grpSpPr>
          <p:sp>
            <p:nvSpPr>
              <p:cNvPr id="257" name=""/>
              <p:cNvSpPr/>
              <p:nvPr/>
            </p:nvSpPr>
            <p:spPr>
              <a:xfrm>
                <a:off x="193680" y="3676680"/>
                <a:ext cx="1143000" cy="11430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44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42800" y="3972960"/>
                <a:ext cx="6469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00"/>
                    </a:solidFill>
                    <a:latin typeface="Arial"/>
                  </a:rPr>
                  <a:t>Yy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1828800" y="3676680"/>
              <a:ext cx="1143000" cy="1143000"/>
              <a:chOff x="1828800" y="3676680"/>
              <a:chExt cx="1143000" cy="1143000"/>
            </a:xfrm>
          </p:grpSpPr>
          <p:sp>
            <p:nvSpPr>
              <p:cNvPr id="260" name=""/>
              <p:cNvSpPr/>
              <p:nvPr/>
            </p:nvSpPr>
            <p:spPr>
              <a:xfrm>
                <a:off x="1828800" y="3676680"/>
                <a:ext cx="1143000" cy="11430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44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077920" y="3972960"/>
                <a:ext cx="6469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00"/>
                    </a:solidFill>
                    <a:latin typeface="Arial"/>
                  </a:rPr>
                  <a:t>Yy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1384200" y="3956040"/>
              <a:ext cx="358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413000" y="4600440"/>
            <a:ext cx="277560" cy="714600"/>
          </a:xfrm>
          <a:prstGeom prst="downArrow">
            <a:avLst>
              <a:gd name="adj1" fmla="val 50000"/>
              <a:gd name="adj2" fmla="val 64364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6178680" y="3687840"/>
            <a:ext cx="2778120" cy="1143000"/>
            <a:chOff x="6178680" y="3687840"/>
            <a:chExt cx="2778120" cy="1143000"/>
          </a:xfrm>
        </p:grpSpPr>
        <p:grpSp>
          <p:nvGrpSpPr>
            <p:cNvPr id="265" name=""/>
            <p:cNvGrpSpPr/>
            <p:nvPr/>
          </p:nvGrpSpPr>
          <p:grpSpPr>
            <a:xfrm>
              <a:off x="6178680" y="3687840"/>
              <a:ext cx="1143000" cy="1143000"/>
              <a:chOff x="6178680" y="3687840"/>
              <a:chExt cx="1143000" cy="1143000"/>
            </a:xfrm>
          </p:grpSpPr>
          <p:sp>
            <p:nvSpPr>
              <p:cNvPr id="266" name=""/>
              <p:cNvSpPr/>
              <p:nvPr/>
            </p:nvSpPr>
            <p:spPr>
              <a:xfrm>
                <a:off x="6178680" y="3687840"/>
                <a:ext cx="1143000" cy="11430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44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450120" y="3984120"/>
                <a:ext cx="6044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00"/>
                    </a:solidFill>
                    <a:latin typeface="Arial"/>
                  </a:rPr>
                  <a:t>Rr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7813800" y="3687840"/>
              <a:ext cx="1143000" cy="1143000"/>
              <a:chOff x="7813800" y="3687840"/>
              <a:chExt cx="1143000" cy="1143000"/>
            </a:xfrm>
          </p:grpSpPr>
          <p:sp>
            <p:nvSpPr>
              <p:cNvPr id="269" name=""/>
              <p:cNvSpPr/>
              <p:nvPr/>
            </p:nvSpPr>
            <p:spPr>
              <a:xfrm>
                <a:off x="7813800" y="3687840"/>
                <a:ext cx="1143000" cy="1143000"/>
              </a:xfrm>
              <a:prstGeom prst="ellipse">
                <a:avLst/>
              </a:prstGeom>
              <a:solidFill>
                <a:srgbClr val="ffea18"/>
              </a:solidFill>
              <a:ln w="9360">
                <a:solidFill>
                  <a:srgbClr val="44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085240" y="3984120"/>
                <a:ext cx="6044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00"/>
                    </a:solidFill>
                    <a:latin typeface="Arial"/>
                  </a:rPr>
                  <a:t>Rr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7369200" y="3967200"/>
              <a:ext cx="358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x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7397640" y="4611600"/>
            <a:ext cx="277920" cy="714600"/>
          </a:xfrm>
          <a:prstGeom prst="downArrow">
            <a:avLst>
              <a:gd name="adj1" fmla="val 50000"/>
              <a:gd name="adj2" fmla="val 64281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61760" y="5991840"/>
            <a:ext cx="1127880" cy="875520"/>
          </a:xfrm>
          <a:prstGeom prst="hexagon">
            <a:avLst>
              <a:gd name="adj" fmla="val 32206"/>
              <a:gd name="vf" fmla="val 11547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/4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55800" y="5991840"/>
            <a:ext cx="1127880" cy="875520"/>
          </a:xfrm>
          <a:prstGeom prst="hexagon">
            <a:avLst>
              <a:gd name="adj" fmla="val 32206"/>
              <a:gd name="vf" fmla="val 11547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/4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32920" y="4852080"/>
            <a:ext cx="1464120" cy="875520"/>
          </a:xfrm>
          <a:prstGeom prst="hexagon">
            <a:avLst>
              <a:gd name="adj" fmla="val 41807"/>
              <a:gd name="vf" fmla="val 11547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/16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012680" y="5365800"/>
            <a:ext cx="1068840" cy="891360"/>
            <a:chOff x="1012680" y="5365800"/>
            <a:chExt cx="1068840" cy="891360"/>
          </a:xfrm>
        </p:grpSpPr>
        <p:grpSp>
          <p:nvGrpSpPr>
            <p:cNvPr id="277" name=""/>
            <p:cNvGrpSpPr/>
            <p:nvPr/>
          </p:nvGrpSpPr>
          <p:grpSpPr>
            <a:xfrm>
              <a:off x="1012680" y="5365800"/>
              <a:ext cx="1068840" cy="891360"/>
              <a:chOff x="1012680" y="5365800"/>
              <a:chExt cx="1068840" cy="891360"/>
            </a:xfrm>
          </p:grpSpPr>
          <p:sp>
            <p:nvSpPr>
              <p:cNvPr id="278" name=""/>
              <p:cNvSpPr/>
              <p:nvPr/>
            </p:nvSpPr>
            <p:spPr>
              <a:xfrm>
                <a:off x="1012680" y="5543280"/>
                <a:ext cx="356040" cy="35712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90160" y="5365800"/>
                <a:ext cx="35676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724760" y="5722200"/>
                <a:ext cx="35676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724760" y="5543280"/>
                <a:ext cx="356760" cy="35712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47280" y="5365800"/>
                <a:ext cx="35604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190160" y="5722200"/>
                <a:ext cx="35676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547280" y="5900760"/>
                <a:ext cx="35604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190160" y="5900760"/>
                <a:ext cx="35676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368720" y="5543280"/>
                <a:ext cx="534600" cy="53496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1288800" y="5485680"/>
              <a:ext cx="604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ea18"/>
                  </a:solidFill>
                  <a:latin typeface="Arial"/>
                </a:rPr>
                <a:t>yy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7005600" y="5365800"/>
            <a:ext cx="1068840" cy="891360"/>
            <a:chOff x="7005600" y="5365800"/>
            <a:chExt cx="1068840" cy="891360"/>
          </a:xfrm>
        </p:grpSpPr>
        <p:grpSp>
          <p:nvGrpSpPr>
            <p:cNvPr id="289" name=""/>
            <p:cNvGrpSpPr/>
            <p:nvPr/>
          </p:nvGrpSpPr>
          <p:grpSpPr>
            <a:xfrm>
              <a:off x="7005600" y="5365800"/>
              <a:ext cx="1068840" cy="891360"/>
              <a:chOff x="7005600" y="5365800"/>
              <a:chExt cx="1068840" cy="891360"/>
            </a:xfrm>
          </p:grpSpPr>
          <p:sp>
            <p:nvSpPr>
              <p:cNvPr id="290" name=""/>
              <p:cNvSpPr/>
              <p:nvPr/>
            </p:nvSpPr>
            <p:spPr>
              <a:xfrm>
                <a:off x="7005600" y="5543280"/>
                <a:ext cx="356040" cy="35712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183080" y="5365800"/>
                <a:ext cx="35676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717680" y="5722200"/>
                <a:ext cx="35676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717680" y="5543280"/>
                <a:ext cx="356760" cy="35712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540200" y="5365800"/>
                <a:ext cx="35604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183080" y="5722200"/>
                <a:ext cx="35676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540200" y="5900760"/>
                <a:ext cx="35604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183080" y="5900760"/>
                <a:ext cx="356760" cy="35640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6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361640" y="5543280"/>
                <a:ext cx="534600" cy="534960"/>
              </a:xfrm>
              <a:prstGeom prst="ellipse">
                <a:avLst/>
              </a:prstGeom>
              <a:solidFill>
                <a:srgbClr val="006301"/>
              </a:solidFill>
              <a:ln w="9360">
                <a:solidFill>
                  <a:srgbClr val="0063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7345800" y="5485680"/>
              <a:ext cx="476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ea18"/>
                  </a:solidFill>
                  <a:latin typeface="Arial"/>
                </a:rPr>
                <a:t>rr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4336920" y="61858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pply the Rule of Multiplic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 flipH="1">
            <a:off x="696240" y="4325760"/>
            <a:ext cx="1870200" cy="1065240"/>
          </a:xfrm>
          <a:prstGeom prst="wedgeEllipseCallout">
            <a:avLst>
              <a:gd name="adj1" fmla="val 30643"/>
              <a:gd name="adj2" fmla="val 8188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Got it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ry thi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55240" y="1613880"/>
            <a:ext cx="304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ABbccDdEEFf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91640" y="1613880"/>
            <a:ext cx="2893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aBbccDdeeFf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45000" y="16138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00440" y="2151000"/>
            <a:ext cx="277920" cy="714600"/>
          </a:xfrm>
          <a:prstGeom prst="downArrow">
            <a:avLst>
              <a:gd name="adj1" fmla="val 50000"/>
              <a:gd name="adj2" fmla="val 64281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35320" y="2963160"/>
            <a:ext cx="300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AabbccDdEeFF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59080" y="4207680"/>
            <a:ext cx="260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b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x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Bb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bb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68800" y="4674600"/>
            <a:ext cx="239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c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x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c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c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67000" y="5141160"/>
            <a:ext cx="264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d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x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Dd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Dd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68440" y="5608080"/>
            <a:ext cx="25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E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x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e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E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67720" y="6074640"/>
            <a:ext cx="230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f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x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f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FF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67000" y="3741120"/>
            <a:ext cx="264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A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x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a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660000"/>
                </a:solidFill>
                <a:latin typeface="Arial"/>
              </a:rPr>
              <a:t> Aa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36440" y="374112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00"/>
                </a:solidFill>
                <a:latin typeface="Arial"/>
              </a:rPr>
              <a:t>1/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41120" y="420768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00"/>
                </a:solidFill>
                <a:latin typeface="Arial"/>
              </a:rPr>
              <a:t>1/4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19760" y="46746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44360" y="5141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00"/>
                </a:solidFill>
                <a:latin typeface="Arial"/>
              </a:rPr>
              <a:t>1/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19760" y="56080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49040" y="607464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00"/>
                </a:solidFill>
                <a:latin typeface="Arial"/>
              </a:rPr>
              <a:t>1/4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92040" y="5960880"/>
            <a:ext cx="1302120" cy="778320"/>
          </a:xfrm>
          <a:prstGeom prst="ellipse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1/64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3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0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6400800" y="4267080"/>
            <a:ext cx="1066680" cy="198144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660066"/>
                </a:solidFill>
                <a:latin typeface="Arial"/>
              </a:rPr>
              <a:t>Rule of addition</a:t>
            </a:r>
            <a:endParaRPr b="1" lang="en-US" sz="3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Chance that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 event can occur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or more different way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sum of the separate probabilities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probability of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Bb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x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Bb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Bb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371600" y="4114800"/>
            <a:ext cx="3886200" cy="213372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71600" y="3809880"/>
            <a:ext cx="3886200" cy="4572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9720" y="380916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301"/>
                </a:solidFill>
                <a:latin typeface="Arial"/>
              </a:rPr>
              <a:t>sperm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76680" y="3809160"/>
            <a:ext cx="67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301"/>
                </a:solidFill>
                <a:latin typeface="Arial"/>
              </a:rPr>
              <a:t>eg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63080" y="3809160"/>
            <a:ext cx="139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301"/>
                </a:solidFill>
                <a:latin typeface="Arial"/>
              </a:rPr>
              <a:t>offsprin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601280" y="4692240"/>
            <a:ext cx="3079080" cy="489960"/>
            <a:chOff x="1601280" y="4692240"/>
            <a:chExt cx="3079080" cy="489960"/>
          </a:xfrm>
        </p:grpSpPr>
        <p:sp>
          <p:nvSpPr>
            <p:cNvPr id="331" name=""/>
            <p:cNvSpPr/>
            <p:nvPr/>
          </p:nvSpPr>
          <p:spPr>
            <a:xfrm>
              <a:off x="1601280" y="469224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1/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677680" y="469224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1/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3400" y="469224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=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76280" y="469224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39560" y="469224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1/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744200" y="4266360"/>
            <a:ext cx="3010680" cy="550800"/>
            <a:chOff x="1744200" y="4266360"/>
            <a:chExt cx="3010680" cy="550800"/>
          </a:xfrm>
        </p:grpSpPr>
        <p:sp>
          <p:nvSpPr>
            <p:cNvPr id="337" name=""/>
            <p:cNvSpPr/>
            <p:nvPr/>
          </p:nvSpPr>
          <p:spPr>
            <a:xfrm>
              <a:off x="1744200" y="4266360"/>
              <a:ext cx="45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B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08440" y="426636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b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65120" y="4266360"/>
              <a:ext cx="68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Bb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601280" y="5682960"/>
            <a:ext cx="3079080" cy="489960"/>
            <a:chOff x="1601280" y="5682960"/>
            <a:chExt cx="3079080" cy="489960"/>
          </a:xfrm>
        </p:grpSpPr>
        <p:sp>
          <p:nvSpPr>
            <p:cNvPr id="341" name=""/>
            <p:cNvSpPr/>
            <p:nvPr/>
          </p:nvSpPr>
          <p:spPr>
            <a:xfrm>
              <a:off x="1601280" y="568296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1/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77680" y="568296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1/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53400" y="568296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=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76280" y="568296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39560" y="5682960"/>
              <a:ext cx="64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1/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764000" y="5257080"/>
            <a:ext cx="2990880" cy="550800"/>
            <a:chOff x="1764000" y="5257080"/>
            <a:chExt cx="2990880" cy="550800"/>
          </a:xfrm>
        </p:grpSpPr>
        <p:sp>
          <p:nvSpPr>
            <p:cNvPr id="347" name=""/>
            <p:cNvSpPr/>
            <p:nvPr/>
          </p:nvSpPr>
          <p:spPr>
            <a:xfrm>
              <a:off x="1764000" y="525708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b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87200" y="5257080"/>
              <a:ext cx="45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B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065120" y="5257080"/>
              <a:ext cx="68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Bb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401520" y="4343040"/>
            <a:ext cx="913680" cy="1709280"/>
            <a:chOff x="6401520" y="4343040"/>
            <a:chExt cx="913680" cy="1709280"/>
          </a:xfrm>
        </p:grpSpPr>
        <p:sp>
          <p:nvSpPr>
            <p:cNvPr id="351" name=""/>
            <p:cNvSpPr/>
            <p:nvPr/>
          </p:nvSpPr>
          <p:spPr>
            <a:xfrm>
              <a:off x="6651360" y="4343040"/>
              <a:ext cx="640800" cy="48996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1/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51360" y="4911480"/>
              <a:ext cx="640800" cy="48996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1/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01520" y="4952520"/>
              <a:ext cx="374400" cy="48996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51360" y="5562360"/>
              <a:ext cx="640800" cy="48996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1/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629400" y="5481720"/>
              <a:ext cx="685800" cy="0"/>
            </a:xfrm>
            <a:prstGeom prst="line">
              <a:avLst/>
            </a:prstGeom>
            <a:ln w="7632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334120" y="5181480"/>
            <a:ext cx="838080" cy="381240"/>
          </a:xfrm>
          <a:custGeom>
            <a:avLst/>
            <a:gdLst>
              <a:gd name="textAreaLeft" fmla="*/ 130680 w 838080"/>
              <a:gd name="textAreaRight" fmla="*/ 733320 w 8380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03:49:32Z</dcterms:created>
  <dc:creator>Kim Foglia</dc:creator>
  <dc:description>All Rights Reserved. Copyright 2003. WD Interactive.</dc:description>
  <cp:keywords>Education Biology Zone Kim Foglia</cp:keywords>
  <dc:language>en-US</dc:language>
  <cp:lastModifiedBy>Kimberly Area School District</cp:lastModifiedBy>
  <cp:lastPrinted>2006-01-12T04:13:46Z</cp:lastPrinted>
  <dcterms:modified xsi:type="dcterms:W3CDTF">2008-12-15T15:44:28Z</dcterms:modified>
  <cp:revision>40</cp:revision>
  <dc:subject>AP &amp; Regents Biology</dc:subject>
  <dc:title>Chapter  14.   Probability &amp; Genetics</dc:title>
</cp:coreProperties>
</file>